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0CF81-4417-4CE1-83CF-BF08892C5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67BB5-A58A-468D-9FD5-863EA1F3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2A2A0-0E2D-4056-A187-23C259E01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3C693-9CA0-4F27-94B6-65DD6C7F7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EF64-A3E9-4E51-B4BB-FFC10CBA5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3F05-8084-4959-88D6-43885D4B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E157D-9864-49BA-8450-9EECECBC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B042-23CB-4F59-94AE-C6CD28E1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1C9B-FEAC-4D44-9C43-F1F1840E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E755-D157-458D-9A82-93354E54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0DA5-EDA4-4500-BA05-B3AC69C7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8E779-61ED-4E69-A557-388DA6B0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69F5-5626-4EC0-B349-9EFB9891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AE0E-CDB0-4B5C-BC95-D2EEE87E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B9B6-F19D-4AED-9973-E7CD4D5C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D8A5-553E-463D-A38D-108942B00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3038-0800-4790-A182-32749E389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68CF0-2B57-4AB8-B0F3-37304CD9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F2BD2-8FEE-40DB-8E04-577B470A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2BE2B-00B9-478E-B263-34559A50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872FB-15D1-441E-B93E-1DEC7C57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CA3DA-216C-4A48-B253-9A3E499B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E91E9-A179-4E1C-A7AE-D48E7220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569C9-53F6-4221-BAA2-56C7F683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57A4-FD0D-4163-9EBC-B383B0424E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BE2A-CC76-49EE-BC7E-DA85FBD00D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Most Common Injuries Seen In Sport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ke Najj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Bloc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at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7" name="Object 4"/>
          <p:cNvGraphicFramePr/>
          <p:nvPr/>
        </p:nvGraphicFramePr>
        <p:xfrm>
          <a:off x="533520" y="1981080"/>
          <a:ext cx="8215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81080"/>
                    <a:ext cx="8215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3000" y="6858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uscle Pul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610480" y="1600200"/>
            <a:ext cx="76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5" descr="hamstring%20muscles"/>
          <p:cNvPicPr/>
          <p:nvPr/>
        </p:nvPicPr>
        <p:blipFill>
          <a:blip r:embed="rId1"/>
          <a:stretch/>
        </p:blipFill>
        <p:spPr>
          <a:xfrm>
            <a:off x="2971800" y="1295280"/>
            <a:ext cx="327672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eck Stra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0" y="1523880"/>
            <a:ext cx="45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Picture 6" descr="06010_01A"/>
          <p:cNvPicPr/>
          <p:nvPr/>
        </p:nvPicPr>
        <p:blipFill>
          <a:blip r:embed="rId1"/>
          <a:stretch/>
        </p:blipFill>
        <p:spPr>
          <a:xfrm>
            <a:off x="1752480" y="1676520"/>
            <a:ext cx="577224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rozen Should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686440" y="6126120"/>
            <a:ext cx="6858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4382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Picture 6" descr="shoulder"/>
          <p:cNvPicPr/>
          <p:nvPr/>
        </p:nvPicPr>
        <p:blipFill>
          <a:blip r:embed="rId1"/>
          <a:stretch/>
        </p:blipFill>
        <p:spPr>
          <a:xfrm>
            <a:off x="2362320" y="1752480"/>
            <a:ext cx="4476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rained Lower Bac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686800" y="6126120"/>
            <a:ext cx="4038480" cy="33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5" descr="14387-1"/>
          <p:cNvPicPr/>
          <p:nvPr/>
        </p:nvPicPr>
        <p:blipFill>
          <a:blip r:embed="rId1"/>
          <a:stretch/>
        </p:blipFill>
        <p:spPr>
          <a:xfrm>
            <a:off x="1752480" y="1752480"/>
            <a:ext cx="571500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endonitis in the Elbow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686440" y="6126120"/>
            <a:ext cx="106668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5" descr="ElbowTendonitis"/>
          <p:cNvPicPr/>
          <p:nvPr/>
        </p:nvPicPr>
        <p:blipFill>
          <a:blip r:embed="rId1"/>
          <a:stretch/>
        </p:blipFill>
        <p:spPr>
          <a:xfrm>
            <a:off x="1371600" y="1676520"/>
            <a:ext cx="579132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unner</a:t>
            </a:r>
            <a:r>
              <a:rPr b="1" lang="ja-JP" sz="4400" spc="-1" strike="noStrike">
                <a:solidFill>
                  <a:srgbClr val="e5e5ff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 Kn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0" y="7162560"/>
            <a:ext cx="76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5" descr="Knee+strap+knee+tendon+patellar+tendon+support+UK"/>
          <p:cNvPicPr/>
          <p:nvPr/>
        </p:nvPicPr>
        <p:blipFill>
          <a:blip r:embed="rId1"/>
          <a:stretch/>
        </p:blipFill>
        <p:spPr>
          <a:xfrm>
            <a:off x="1828800" y="1447920"/>
            <a:ext cx="5181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hin Spli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686800" y="6126120"/>
            <a:ext cx="838080" cy="1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5" descr="shinsplints1"/>
          <p:cNvPicPr/>
          <p:nvPr/>
        </p:nvPicPr>
        <p:blipFill>
          <a:blip r:embed="rId1"/>
          <a:stretch/>
        </p:blipFill>
        <p:spPr>
          <a:xfrm>
            <a:off x="2819520" y="1447920"/>
            <a:ext cx="356220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eatment for Injur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im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hysical Therap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ti-inflammatory medic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17:12:21Z</dcterms:created>
  <dc:creator>EHS</dc:creator>
  <dc:description/>
  <dc:language>en-US</dc:language>
  <cp:lastModifiedBy>Belmont Hill Belmont Hill School</cp:lastModifiedBy>
  <dcterms:modified xsi:type="dcterms:W3CDTF">2011-05-03T18:33:31Z</dcterms:modified>
  <cp:revision>6</cp:revision>
  <dc:subject/>
  <dc:title>Most Common Injuries Seen In Sports</dc:title>
</cp:coreProperties>
</file>